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E376-D0B7-4693-A38E-DEF13872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BBF6-E5F8-4003-AE7E-14BBACEF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3060-1E43-48CE-AB4B-0AFDFF11C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76C4-6442-4B3E-AFB0-4C8EBEF49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94E7-91C4-44BB-B4AA-E3300F40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5D03-EA20-4EB9-ADC6-AF9862C2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5AA4-147F-43B6-9915-8F92AD3D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6641-7A8A-44FD-BD96-B41E782F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4D1D-456A-4BFE-BDA8-FF8B7630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8569-F820-4B36-9566-08E5B8B0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2513-884C-4011-A403-C285BD04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5FF7-EF81-4D98-A41A-C5DB2792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0B6F-9AC6-4E55-99B4-0C32540FFAE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420640"/>
            <a:ext cx="6400800" cy="2305080"/>
          </a:xfrm>
          <a:prstGeom prst="rect">
            <a:avLst/>
          </a:prstGeom>
          <a:solidFill>
            <a:srgbClr val="ffe98d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تاس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 المحاسبية ونظريات الاستثمار الحديث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6B0F-107E-42EC-8A7F-41994E093ABE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1023480"/>
            <a:ext cx="7772760" cy="9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ظرية محفظة الاوراق المالية والمعلومات المحاسب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2813040"/>
            <a:ext cx="7839000" cy="27036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50000">
                <a:srgbClr val="ccccff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قوم على أساس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نظرية المنفعة في اختيار البدائل الممك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ظرية الاحتمالات لتقدير العائد المتوقع من كل قرار استثمار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B782-B295-4A77-B627-255200D1C1DF}" type="slidenum">
              <a:t>10</a:t>
            </a:fld>
          </a:p>
        </p:txBody>
      </p:sp>
    </p:spTree>
  </p:cSld>
  <p:transition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4360" y="1700280"/>
            <a:ext cx="7772760" cy="67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ed4c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فروض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ن</a:t>
            </a:r>
            <a:r>
              <a:rPr b="0" lang="ar-SA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ظرية محفظة الاوراق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3298680"/>
            <a:ext cx="7848720" cy="25783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خذ العائد المتوقع والخاطرة في الاعتب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ختيار المحفظة الكف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وزيع العائد عند مستوى م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ن من المخاط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مخاطرة تتناسب طرديا مع العائ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A6AD-53E2-4633-A900-F8B86F184965}" type="slidenum">
              <a:t>11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1144440"/>
            <a:ext cx="7772760" cy="707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نواع المخاط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78400" y="2472480"/>
            <a:ext cx="2849400" cy="9630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غير منتظ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43840" y="2471760"/>
            <a:ext cx="2631600" cy="94716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منتظمة (دوري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560" y="3959280"/>
            <a:ext cx="2668680" cy="220644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ي التي تؤثر في جميع الاوراق المالية ولا يمكن تجنبها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8200" y="3981600"/>
            <a:ext cx="2971800" cy="21970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ي التي تؤثر على العائد من نوع معين من الاستثمار ويمكن تجنبها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2720" y="352908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43640" y="350028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25B7-45C0-4DA7-A39B-E7A4E5569FA4}" type="slidenum">
              <a:t>12</a:t>
            </a:fld>
          </a:p>
        </p:txBody>
      </p:sp>
    </p:spTree>
  </p:cSld>
  <p:transition>
    <p:random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914400"/>
            <a:ext cx="7804440" cy="9082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ffff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راحل اتخاذ القر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2706840"/>
            <a:ext cx="7775280" cy="324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حديد المشك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حديد البدائل الممك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جمع 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قييم البدائ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ختيار البديل المناس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87A2-C869-4345-9548-BE66AB18E7F3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780840"/>
            <a:ext cx="7772760" cy="907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ليل الاساس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2492280"/>
            <a:ext cx="7848360" cy="14274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cccc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هتمام بالارباح المتوقعة ونصيب السهم منها والمخاط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4363920"/>
            <a:ext cx="7775280" cy="17290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cccc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راحل التحليل الأساسي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منشأ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صناعة التي ينتمي إليها المشرو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نشاط الاقتصادي الك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11592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4BA3-29BF-4789-983D-9AEF258C86EC}" type="slidenum">
              <a:t>3</a:t>
            </a:fld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1419120"/>
            <a:ext cx="7772760" cy="908280"/>
          </a:xfrm>
          <a:prstGeom prst="rect">
            <a:avLst/>
          </a:prstGeom>
          <a:solidFill>
            <a:srgbClr val="cccc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ليل الفن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3360600"/>
            <a:ext cx="7704000" cy="194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هتم بدراسة السوق التي يتم الاستثمار فيها مثل سوق الاوراق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230C-F301-4BDA-BF97-2B71FD964842}" type="slidenum">
              <a:t>4</a:t>
            </a:fld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844560"/>
          </a:xfrm>
          <a:prstGeom prst="rect">
            <a:avLst/>
          </a:prstGeom>
          <a:solidFill>
            <a:srgbClr val="ccccff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ور المعلومات المحاسبية في العم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2421000"/>
            <a:ext cx="3581640" cy="8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ليل الاساس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4021200"/>
            <a:ext cx="35812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ليل الفن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468760"/>
            <a:ext cx="42670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ختيار الاستثمار الافض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279396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98d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25520" y="430704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98d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DE0E-9359-4152-8C70-CBB93CFB76CC}" type="slidenum">
              <a:t>5</a:t>
            </a:fld>
          </a:p>
        </p:txBody>
      </p: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755640" y="1268280"/>
            <a:ext cx="7772760" cy="960120"/>
          </a:xfrm>
          <a:prstGeom prst="rect">
            <a:avLst/>
          </a:prstGeom>
          <a:solidFill>
            <a:srgbClr val="ccccff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ظرية السوق الكفء والمعلومات المحاسب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5640" y="3139920"/>
            <a:ext cx="7778880" cy="2953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e6dcac"/>
              </a:gs>
              <a:gs pos="100000">
                <a:srgbClr val="ccecff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هتم ببيان أثر المعلومات على أسعار الاوراق المالية في السوق ودراسة سلوك المستثمرين تجاه كل معلومة تنش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السوق الكفء هو الذي يتكيف أولا بأول لكل معلومة يتم نشرها وبالتالي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عكس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ثرها ع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ى أسعار الاوراق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8DB7-0C6D-4B4A-8B79-D072146B5B35}" type="slidenum">
              <a:t>6</a:t>
            </a:fld>
          </a:p>
        </p:txBody>
      </p: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952200"/>
            <a:ext cx="7772760" cy="691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قوم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56640" y="2375640"/>
            <a:ext cx="2447280" cy="520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187680" y="2375640"/>
            <a:ext cx="2316960" cy="520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سو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27640" y="3284640"/>
            <a:ext cx="2314800" cy="280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ن حيث الآلية التي يعمل بها السو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3305160"/>
            <a:ext cx="2438280" cy="28605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رجة الفهم  الاستفادة من المعلومات المنشور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9720" y="3284640"/>
            <a:ext cx="2448000" cy="2936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جر الزاوية في الحكم على كفاءة السو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وعيتها(تاريخية، حالية،داخلية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  مالية ..الخ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وافر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صادرها وتكلفتها ودق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09920" y="2347920"/>
            <a:ext cx="2457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ثمر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5710-84AC-46A4-8082-97910CEF282D}" type="slidenum">
              <a:t>7</a:t>
            </a:fld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427640" y="2349360"/>
            <a:ext cx="288720" cy="8636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490760"/>
            <a:ext cx="7772760" cy="6202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78200" y="2765160"/>
            <a:ext cx="2165040" cy="62532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غير 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814720" y="2770200"/>
            <a:ext cx="2166840" cy="62064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53240" y="4032360"/>
            <a:ext cx="2190600" cy="191772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اريخ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قب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57320" y="4011480"/>
            <a:ext cx="2087640" cy="19098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اريخ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قب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4388400" y="1818360"/>
            <a:ext cx="279720" cy="25192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93960" y="347184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34160" y="348624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8E6A-4FB5-4DE9-9A28-99686265353E}" type="slidenum">
              <a:t>8</a:t>
            </a:fld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6084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620640"/>
            <a:ext cx="7772760" cy="691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ويات السوق الكف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14600" y="1945080"/>
            <a:ext cx="2228400" cy="53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ادن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188760" y="1876680"/>
            <a:ext cx="2237040" cy="598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اعلى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27640" y="2911320"/>
            <a:ext cx="2232000" cy="18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جميع المعلومات المالية وغير المالية المتاح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1080" y="2924280"/>
            <a:ext cx="2303280" cy="181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المعلومات التاريخية والح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2868480"/>
            <a:ext cx="2232000" cy="187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المعلومات التاريخية فق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1080" y="1916280"/>
            <a:ext cx="2303280" cy="59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متوس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56360" y="5029200"/>
            <a:ext cx="237636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صعب التحقق لصعوبة التماث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5027760"/>
            <a:ext cx="244800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غير مقبول لصعوبة تحديد الاسعار بناء على معلومات تاريخ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5027760"/>
            <a:ext cx="237636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مقبول بشكل واس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40360" y="11592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41D3-A0DE-4221-90AD-E089B2DD1B8F}" type="slidenum">
              <a:t>9</a:t>
            </a:fld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2:45:21Z</dcterms:modified>
  <cp:revision>37</cp:revision>
  <dc:subject/>
  <dc:title>التحليل المالي والائتماني</dc:title>
</cp:coreProperties>
</file>